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A5BBF60-7904-483B-B7AA-39097CDF3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DC7F90A-8D5C-4BE9-8F01-949F83238E1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ust lugeda brauseri-tehnoloogiat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metlikud standardid: http://www.w3.org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w3schools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1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torialid: http://www.codecademy.com/tracks/web </a:t>
            </a: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erimisk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5080" indent="-325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e: http://www.w3schools.com/html/default.asp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ne ametlik 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dard: http://www.w3.org/TR/html401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Uus ametlik standard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HTML5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plekt uusi kasulikke 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n XHTML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ktiliselt seesama, mis HTML (samad tagi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gid peavad olema väikeste tähtedeg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b olema korrektses XML süntaksis (tagi suletu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ar XML-i lisaknihvi ka (namespaced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-270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ole eriti mainstream või eriti laialt kasuta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8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5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riti t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6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, CSS, 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HTML+CSS+Javascript+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"http://dijkstra.cs.ttu.ee/~tammet/cgi-bin/fetch.py", {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post",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ody: gam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store)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7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iline probleem andmete esitamis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92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Oval 6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711520" y="2905200"/>
            <a:ext cx="2306520" cy="658800"/>
            <a:chOff x="2711520" y="2905200"/>
            <a:chExt cx="2306520" cy="658800"/>
          </a:xfrm>
        </p:grpSpPr>
        <p:sp>
          <p:nvSpPr>
            <p:cNvPr id="196" name="AutoShape 8"/>
            <p:cNvSpPr/>
            <p:nvPr/>
          </p:nvSpPr>
          <p:spPr>
            <a:xfrm>
              <a:off x="2711520" y="2905200"/>
              <a:ext cx="2306520" cy="65880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9"/>
            <p:cNvSpPr/>
            <p:nvPr/>
          </p:nvSpPr>
          <p:spPr>
            <a:xfrm>
              <a:off x="3134160" y="2905200"/>
              <a:ext cx="12992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10"/>
          <p:cNvGrpSpPr/>
          <p:nvPr/>
        </p:nvGrpSpPr>
        <p:grpSpPr>
          <a:xfrm>
            <a:off x="2394720" y="4871880"/>
            <a:ext cx="3404520" cy="635040"/>
            <a:chOff x="2394720" y="4871880"/>
            <a:chExt cx="3404520" cy="635040"/>
          </a:xfrm>
        </p:grpSpPr>
        <p:sp>
          <p:nvSpPr>
            <p:cNvPr id="199" name="AutoShape 11"/>
            <p:cNvSpPr/>
            <p:nvPr/>
          </p:nvSpPr>
          <p:spPr>
            <a:xfrm>
              <a:off x="2419200" y="4871880"/>
              <a:ext cx="3380040" cy="6350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12"/>
            <p:cNvSpPr/>
            <p:nvPr/>
          </p:nvSpPr>
          <p:spPr>
            <a:xfrm>
              <a:off x="239472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4964760" y="4213080"/>
            <a:ext cx="1308960" cy="584280"/>
            <a:chOff x="4964760" y="4213080"/>
            <a:chExt cx="1308960" cy="584280"/>
          </a:xfrm>
        </p:grpSpPr>
        <p:sp>
          <p:nvSpPr>
            <p:cNvPr id="202" name="AutoShape 14"/>
            <p:cNvSpPr/>
            <p:nvPr/>
          </p:nvSpPr>
          <p:spPr>
            <a:xfrm>
              <a:off x="4970520" y="4213080"/>
              <a:ext cx="1303200" cy="5842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496476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5033160" y="3505320"/>
            <a:ext cx="1072440" cy="583920"/>
            <a:chOff x="5033160" y="3505320"/>
            <a:chExt cx="1072440" cy="583920"/>
          </a:xfrm>
        </p:grpSpPr>
        <p:sp>
          <p:nvSpPr>
            <p:cNvPr id="205" name="AutoShape 17"/>
            <p:cNvSpPr/>
            <p:nvPr/>
          </p:nvSpPr>
          <p:spPr>
            <a:xfrm>
              <a:off x="5033880" y="3505320"/>
              <a:ext cx="1071720" cy="5839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50331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4220280" y="3835440"/>
            <a:ext cx="748440" cy="560520"/>
            <a:chOff x="4220280" y="3835440"/>
            <a:chExt cx="748440" cy="560520"/>
          </a:xfrm>
        </p:grpSpPr>
        <p:sp>
          <p:nvSpPr>
            <p:cNvPr id="208" name="AutoShape 20"/>
            <p:cNvSpPr/>
            <p:nvPr/>
          </p:nvSpPr>
          <p:spPr>
            <a:xfrm>
              <a:off x="4227480" y="3835440"/>
              <a:ext cx="741240" cy="56052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422028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2013480" y="3811680"/>
            <a:ext cx="1942560" cy="461880"/>
            <a:chOff x="2013480" y="3811680"/>
            <a:chExt cx="1942560" cy="461880"/>
          </a:xfrm>
        </p:grpSpPr>
        <p:sp>
          <p:nvSpPr>
            <p:cNvPr id="211" name="AutoShape 23"/>
            <p:cNvSpPr/>
            <p:nvPr/>
          </p:nvSpPr>
          <p:spPr>
            <a:xfrm>
              <a:off x="2030400" y="3811680"/>
              <a:ext cx="1925640" cy="46188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24"/>
            <p:cNvSpPr/>
            <p:nvPr/>
          </p:nvSpPr>
          <p:spPr>
            <a:xfrm>
              <a:off x="201348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8409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AutoShape 6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, 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ML ke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, css,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 baastehn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WebGL, canvas, pisiandmebaasid, 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veel hulk eritehnoloogi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tähendus ehk semantik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4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9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3320" indent="-2746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685960" y="22604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09088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559584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6094440" y="228420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 flipV="1">
            <a:off x="4275000" y="227484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006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3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1547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3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 ja 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pannakse “tag”-ide vahele: infol on sildid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ML:  “tag”-del visuaalne semantik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(st tähendus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b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pak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b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i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in on kaldkirjas teks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i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:   “tag”-del semantika puudub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autor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autor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minuaadress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v 9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&lt;/minuaadress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5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3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8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71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emant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line veeb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w3c vana suur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jek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3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ni ei ole läinud nii hästi, kui loodet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esmärk: pakkud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 esitamis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eeli ja luua standardeid, mille abil kirjeldada asju (internetis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ovitav tulemus: saab teha tarkvara, mille abil datat saab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ergest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st programmist teise saata, nii et info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mõt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duma ei läh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majoones vaja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bjektide kirjeldamis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istete omavaheliste seoste ja reeglite 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jekti juht:   Tim Berners-Lee (http, www ja esimese brauseri autor, w3c juht)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89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mantic webi planeeritud k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hiline 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stuste ke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loogik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toloogiakeel (Owl ja tema alamhulga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jade kirjelduskeel (RDF ja RDF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de unikaliseerimine (namespaces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ntaks (XML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JSON, turtle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ansport (http, https, SOAP, tcp/ip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94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AutoShape 6"/>
          <p:cNvSpPr/>
          <p:nvPr/>
        </p:nvSpPr>
        <p:spPr>
          <a:xfrm>
            <a:off x="1143000" y="1752480"/>
            <a:ext cx="5943600" cy="3657600"/>
          </a:xfrm>
          <a:prstGeom prst="roundRect">
            <a:avLst>
              <a:gd name="adj" fmla="val 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n keeruline osa semantilise veebi projekti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90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                      &lt;hind&gt;100&lt;/hind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848720" cy="74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0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jade kirjeldamine: RDF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-2797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s://courses.cs.ttu.ee/pages/Teadmisp%C3%B5hise_tarkvaraarenduse_meetodid_/_Methods_of_Knowledge_Based_Software_Development_2017#Knowledge_represen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-2797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ik kirjeldused on kolmikud:   [objekt,  omadus,  väärtus]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a l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name           „John Brown“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balance       200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1     customer   client_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lient_2    name          „Mike“ 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1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11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RDF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d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htmli semantilisest annoteerimis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gse html-teksti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emel on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iin masinloetavaks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-tekstiks RDFa järgi annoteeritul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about=”#jaanus_kask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nimi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Jaanus Kask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property=”er:telefon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gt;6024554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&lt;a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rel=”er:koduleht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ref=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kask.googlepages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”&gt;kliki siia&lt;/a&gt;&lt;/td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1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ntoloogiad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ehk mõistete hierarhiad ja lihtseo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http://schema.or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https://developers.google.com/search/docs/guides/intro-structured-dat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Drink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3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gred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lsner      Porter     Bock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Hops   Malts  .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 valdkondades on oma ontoloogi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-3297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i peag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m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kõiki programme kasutama samu “standardontoloogiaid”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32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Line 6"/>
          <p:cNvSpPr/>
          <p:nvPr/>
        </p:nvSpPr>
        <p:spPr>
          <a:xfrm flipH="1">
            <a:off x="2657520" y="1905120"/>
            <a:ext cx="7048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7"/>
          <p:cNvSpPr/>
          <p:nvPr/>
        </p:nvSpPr>
        <p:spPr>
          <a:xfrm flipH="1">
            <a:off x="1666440" y="3276720"/>
            <a:ext cx="552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2741760" y="32767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3200400" y="32767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4267080" y="1676520"/>
            <a:ext cx="1905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022720" y="3352680"/>
            <a:ext cx="168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5410080" y="33526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3"/>
          <p:cNvSpPr/>
          <p:nvPr/>
        </p:nvSpPr>
        <p:spPr>
          <a:xfrm>
            <a:off x="985680" y="2476440"/>
            <a:ext cx="6051600" cy="2303640"/>
          </a:xfrm>
          <a:custGeom>
            <a:avLst/>
            <a:gdLst/>
            <a:ahLst/>
            <a:rect l="l" t="t" r="r" b="b"/>
            <a:pathLst>
              <a:path w="16812" h="6399">
                <a:moveTo>
                  <a:pt x="12052" y="321"/>
                </a:moveTo>
                <a:cubicBezTo>
                  <a:pt x="11135" y="39"/>
                  <a:pt x="10403" y="48"/>
                  <a:pt x="9406" y="0"/>
                </a:cubicBezTo>
                <a:cubicBezTo>
                  <a:pt x="8017" y="22"/>
                  <a:pt x="6672" y="57"/>
                  <a:pt x="5292" y="180"/>
                </a:cubicBezTo>
                <a:cubicBezTo>
                  <a:pt x="4820" y="313"/>
                  <a:pt x="4348" y="343"/>
                  <a:pt x="3863" y="392"/>
                </a:cubicBezTo>
                <a:cubicBezTo>
                  <a:pt x="3329" y="551"/>
                  <a:pt x="2769" y="643"/>
                  <a:pt x="2218" y="714"/>
                </a:cubicBezTo>
                <a:cubicBezTo>
                  <a:pt x="2068" y="815"/>
                  <a:pt x="1931" y="859"/>
                  <a:pt x="1750" y="895"/>
                </a:cubicBezTo>
                <a:cubicBezTo>
                  <a:pt x="1671" y="948"/>
                  <a:pt x="1574" y="979"/>
                  <a:pt x="1499" y="1036"/>
                </a:cubicBezTo>
                <a:cubicBezTo>
                  <a:pt x="996" y="1415"/>
                  <a:pt x="1737" y="956"/>
                  <a:pt x="1177" y="1287"/>
                </a:cubicBezTo>
                <a:cubicBezTo>
                  <a:pt x="1009" y="1490"/>
                  <a:pt x="815" y="1706"/>
                  <a:pt x="604" y="1861"/>
                </a:cubicBezTo>
                <a:cubicBezTo>
                  <a:pt x="502" y="2108"/>
                  <a:pt x="366" y="2310"/>
                  <a:pt x="246" y="2540"/>
                </a:cubicBezTo>
                <a:cubicBezTo>
                  <a:pt x="119" y="2795"/>
                  <a:pt x="88" y="3095"/>
                  <a:pt x="0" y="3364"/>
                </a:cubicBezTo>
                <a:cubicBezTo>
                  <a:pt x="13" y="3655"/>
                  <a:pt x="13" y="4158"/>
                  <a:pt x="141" y="4471"/>
                </a:cubicBezTo>
                <a:cubicBezTo>
                  <a:pt x="176" y="4560"/>
                  <a:pt x="273" y="4608"/>
                  <a:pt x="321" y="4687"/>
                </a:cubicBezTo>
                <a:cubicBezTo>
                  <a:pt x="524" y="5040"/>
                  <a:pt x="855" y="5203"/>
                  <a:pt x="1248" y="5261"/>
                </a:cubicBezTo>
                <a:cubicBezTo>
                  <a:pt x="1583" y="5393"/>
                  <a:pt x="1918" y="5521"/>
                  <a:pt x="2253" y="5653"/>
                </a:cubicBezTo>
                <a:cubicBezTo>
                  <a:pt x="2548" y="5772"/>
                  <a:pt x="3611" y="5816"/>
                  <a:pt x="4004" y="5830"/>
                </a:cubicBezTo>
                <a:cubicBezTo>
                  <a:pt x="5053" y="5869"/>
                  <a:pt x="6103" y="5905"/>
                  <a:pt x="7153" y="5940"/>
                </a:cubicBezTo>
                <a:cubicBezTo>
                  <a:pt x="8903" y="6156"/>
                  <a:pt x="10650" y="6222"/>
                  <a:pt x="12414" y="6297"/>
                </a:cubicBezTo>
                <a:cubicBezTo>
                  <a:pt x="12956" y="6363"/>
                  <a:pt x="13481" y="6398"/>
                  <a:pt x="14023" y="6297"/>
                </a:cubicBezTo>
                <a:cubicBezTo>
                  <a:pt x="14253" y="6253"/>
                  <a:pt x="14703" y="6152"/>
                  <a:pt x="14703" y="6152"/>
                </a:cubicBezTo>
                <a:cubicBezTo>
                  <a:pt x="14963" y="5944"/>
                  <a:pt x="15196" y="5949"/>
                  <a:pt x="15487" y="5724"/>
                </a:cubicBezTo>
                <a:cubicBezTo>
                  <a:pt x="15730" y="5534"/>
                  <a:pt x="15920" y="5362"/>
                  <a:pt x="16131" y="5150"/>
                </a:cubicBezTo>
                <a:cubicBezTo>
                  <a:pt x="16290" y="4992"/>
                  <a:pt x="16383" y="4855"/>
                  <a:pt x="16564" y="4723"/>
                </a:cubicBezTo>
                <a:cubicBezTo>
                  <a:pt x="16678" y="4489"/>
                  <a:pt x="16749" y="4299"/>
                  <a:pt x="16811" y="4044"/>
                </a:cubicBezTo>
                <a:cubicBezTo>
                  <a:pt x="16775" y="3532"/>
                  <a:pt x="16802" y="3497"/>
                  <a:pt x="16528" y="3148"/>
                </a:cubicBezTo>
                <a:cubicBezTo>
                  <a:pt x="16449" y="2937"/>
                  <a:pt x="16255" y="2804"/>
                  <a:pt x="16096" y="2646"/>
                </a:cubicBezTo>
                <a:cubicBezTo>
                  <a:pt x="15664" y="2213"/>
                  <a:pt x="15152" y="1790"/>
                  <a:pt x="14632" y="1468"/>
                </a:cubicBezTo>
                <a:cubicBezTo>
                  <a:pt x="14464" y="1248"/>
                  <a:pt x="14438" y="1336"/>
                  <a:pt x="14200" y="1217"/>
                </a:cubicBezTo>
                <a:cubicBezTo>
                  <a:pt x="13719" y="979"/>
                  <a:pt x="13216" y="776"/>
                  <a:pt x="12736" y="538"/>
                </a:cubicBezTo>
                <a:cubicBezTo>
                  <a:pt x="12639" y="489"/>
                  <a:pt x="12392" y="410"/>
                  <a:pt x="12303" y="392"/>
                </a:cubicBezTo>
                <a:cubicBezTo>
                  <a:pt x="12039" y="335"/>
                  <a:pt x="12052" y="445"/>
                  <a:pt x="12052" y="321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16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341520" y="2579760"/>
            <a:ext cx="3299040" cy="1393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õhimõtteliselt kujunduskeel, mitte programmeerimiskee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default.asp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lambda.ee/wiki/V%C3%B5rgurakendused_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utvume põhimõtetega loengus tehtavate näidete abi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lihtsat java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python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odi näid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://java.sun.com/docs/books/tutorial/networking/urls/readingURL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s://docs.python.org/2/howto/urllib2.html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oorlugemise tööriistad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itaolised rakend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yn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3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75960"/>
            <a:ext cx="7848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85120" indent="-285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failid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-285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(fail)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29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serverile (php, mod-perl jn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käia kohe eri-veebiserveri sees (java tomca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või olla eraldi programm, mille server käivitab (klassikalised cgi-programmid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-23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binatsioonid serverite ahelatega on ka kasutus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973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8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3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(nn cgi-programm)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4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3280" indent="-321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WebGL graafik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7-11-09T05:42:24Z</dcterms:modified>
  <cp:revision>28</cp:revision>
  <dc:subject/>
  <dc:title> </dc:title>
</cp:coreProperties>
</file>